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1C86-BEEC-421E-97B5-71B2FB6496E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7A67-8B7D-430F-96CD-0C2DD490C17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6B9E-E972-4336-B4CA-31281AEF57C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C200-5159-4C99-B109-B75426EF50E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E747-D730-4F3B-9C7B-FD0917FA647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0E48-8EB2-4201-8B0C-04405AF3AE3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9E29-EC35-4915-8D56-463EF0BBF75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F69C-6C8B-43CE-A0CA-CE699088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B315-2377-4373-A5BA-2D14B87A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025D4-F4FC-4AF3-B7CF-DB9DEAEC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D939E-B692-4763-80A7-4BDD61BC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F4379-17EC-40A0-88F5-AB034625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A68EF-A74B-4A2C-98B2-F85662A8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E4756-0423-4BC8-9D28-0FD88D21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89CB6-5968-4D62-B556-075D3080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4C37E-FE28-45EB-B8D2-4DFCB5A5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73C90-9DC4-4A0A-A418-19FEC7C9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9CCB8-B574-43F8-B3A7-ED02D31C1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F0EC4-8A1A-4F1F-9178-E574546B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C063-CF28-44B8-BD97-C1B257BE4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03402-C747-4FCB-948F-00F3D85C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5F7F22-5FC4-459C-BF5E-EB3A7C21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67BC1-70FA-45F0-973A-00C95804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6B458-39F4-43DF-9FE8-ACCE4504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4E5CA9-F36D-4D66-8842-BDEC8C4A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DA3D3-F20F-402E-98CF-E65CD188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A808B4-38EC-446D-A3E2-E5771E40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8BFB5-6F8B-490E-8BAD-2529F3B0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D99A1-0FD1-427B-B2BF-310C033D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05194-0A0E-4753-A5DE-2828F8A77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DF71-B76A-4F9D-9B73-46D9C0B5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0DE87-D437-4343-9653-C412D61C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20E5F-12D9-4578-872C-3925FAE4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B1213-1848-428A-B555-E182C526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2D9F2-4EB7-44B7-BEA0-35786D7F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BF7F5-15D7-4F6B-AAD4-81C54080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A4734-9A0D-43E4-AE56-E4B72683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940D2-E973-491E-8597-A92D966E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75012-F007-4212-AC65-C6477CD8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DCF8B-5F64-41CD-84A7-3EF1CE76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1AD9D-75ED-42D1-A06F-115E8D47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13DC-D475-4F97-AFDB-374D39193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7BE1C-29C2-4D86-A47B-12B83846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B090A-2B4E-4E65-B894-89C2B802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261B6-5848-4C13-B80B-E4C5DE7F7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6AA1F-E61C-43FB-9280-70DC04DF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BBDDB8-ED1F-4784-96F2-BD46DA65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73A54-FD8D-4098-9AD1-2D60CD6E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1F1C9-E1C8-4670-82FD-1D813CB4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F2BBB-03CF-48A7-9AD0-D929C9F6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AB448A-5AA2-4DD9-8A8E-554F4362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99C4F-9BE9-42E7-BF49-3C189131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F596-40CE-4EBE-B421-C6064D7C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EFE1DF-2AE2-4FC9-BAF1-5AF319FB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5E16CD-642D-43AC-B5C8-DA872E92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26B44-F15E-475E-BB37-64116D0A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2417F-E603-4916-93F3-DA1D3C83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F6E29-B626-4BCE-BCEA-00632C4A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B60014-0A78-4244-B1EF-16174D4FC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0E106F-E143-4DC8-91FA-CBB266ED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6AE66D-A793-4D88-B75B-66E4F261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9F4944-6186-45DC-8832-AD7CD8DE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82699D-671B-4ED1-90AA-4A15611F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3B20-AC77-40DB-8478-AD474D41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CAD509-000A-4747-B886-A6C29978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C1CD5E-16DA-4949-9B11-AC95AEA6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159110-B91F-404D-A658-402497E3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A6EC87-E6B1-4130-B7DD-183BDB86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EA85AB-0DD1-4686-86AC-A6F8FC0F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0B3EA3-E6A9-4B39-AE98-E7291CF0B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65A36C-ABFC-4429-AB70-D3137A079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650E-D39F-430E-ABEB-E0BCB885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E3F5-9A68-4C40-9040-D8094BDE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CC8C-C4B5-42F5-AF7A-9FD78BD5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3B8F-6DD4-4B25-980E-6AA9331E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D914-7817-4927-8D94-85B7BE09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21A8-FB6F-4681-AE64-A3F25F47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CE99-FE65-480B-AC46-02D74DF0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A783-0294-4254-BB57-B309B393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2799-0B24-4D0D-B329-D0FDF639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E95A-92A2-477E-BEDB-565D883E4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1D5D3-FD28-42BC-9EBA-D52B9FC2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4DDB7-6879-43D6-B386-0DDCF17C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91F68-4CCC-49F4-BA91-0783D638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786B7-A2F6-4CD3-8C1E-CF9968BB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6C10A-A0C2-4EEE-ABBF-F21E1CDA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DB89-30D1-4E9D-8B2B-C73E55D7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F60CF-A014-45F2-A94D-80ED4167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60296-9EB8-4440-BAF7-4BFC0D04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6D9FE-2515-43DD-8078-D3D1B08C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C5C89-31A3-4F25-8767-9964143A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F9963-67D2-4F79-8B9B-58BAC144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5615D-BB6B-4669-ADC5-4B296E936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307C9-1171-4571-9979-605D524CE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3D1A3-D6FE-460C-822E-2A2CAB175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10957-94E7-4BF1-8DE7-0B57EA1F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5C0F5-9E3C-4C19-9F22-34C38FA6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B0AA-A757-4CB6-AD0F-C1C4FF1A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30425-AF6D-471F-9F1F-96900C02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E234B-EF2E-450A-BB0A-CB08576E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6702E-F56C-4240-BE6B-D9BD1BAC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9D575-BF16-4C4D-AA32-066552BA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4DF8D-2501-45D8-A1AB-675A69D7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AEA88-86B7-4457-A739-24A998F2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5F90E-4306-4FBB-861F-B036CA3F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42AEA-67D8-4863-8678-CF0B1C55F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7211D-5F39-4991-8517-575FD6ECB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F2F55-1374-4606-97F8-1B8A5B236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18A1-AD26-4B29-B9A2-32859619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2626E-FA70-43E9-B9E3-102A32C0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5F6B7-0A15-4619-A4FC-B671CE1A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D2D63-7D5C-496A-97FF-2DDF210E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014F5-186E-4CB2-A366-161A8CBE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77915-6952-4446-8084-240122F1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1591A-9A14-48C0-AA8E-98D813B9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D8D71-B755-439B-BFB0-562869BF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5E9F8-D99D-406C-A32F-2B8C3EE8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3F568-98A7-48E3-9613-A8AF23D7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10581-485D-4E01-A23C-0E5396873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E8E2-C60A-4278-957A-023AA87D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098A6-33DF-4D8C-B910-DCB8C18F7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4A7EF-5E2E-4192-8D72-D9DEDC1D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99CD4-4F44-4059-8E0B-AA2F061C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9DAA8-3523-4CC2-9E02-4908E36E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5688D-460B-4895-869F-1FB302B7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9621B-7CB7-4C33-B033-B2044526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5E1D3-BF11-4FC3-B275-3ABB99F9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F0AC1-312D-4996-AD7C-331097FF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61185-7A1C-4398-ACDE-97D11981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266A5-4F09-4F8A-B279-A04CDEE8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114E-D3EF-43CF-8C36-A3827102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C5BE8-6CC9-4684-82F6-D12428CC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5DCE4-E9AA-49E2-B4BC-DB51F515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19ACD-DBA0-487A-93F1-8DB2EE533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98D68-8AFA-4A81-83ED-3CE15DA51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18D48-0671-4216-8844-F57200E4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CD6B5-3C29-4858-BAF1-5005399F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D18C4-0BCA-4647-904A-C927224A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47F06-1A1C-4FBF-8318-75E36122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9295F-DFF1-4FD4-830A-C4481FB9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25E68-0B3E-426E-8E8D-566966F9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4D61-CF9B-4997-BC91-B01311CA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DA282-49AA-4F1F-B775-3150DF72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FC7DF-F847-4D6D-88E3-593E8AEA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CB93F-9F7A-44D6-A938-E6C4D57D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BB016-6074-43CC-B553-32DECAC1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94AA3-9583-460B-815F-4C04F54E3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21D02-0ED7-4194-B264-669682F5B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CDCF2-B68C-4563-90D3-2ED26C89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622F2-E12C-4C89-B0A0-40B20B96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9BFD0-9DA2-41A3-96A4-0E94C855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4578C-15CF-4184-8C38-5CED6FEB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8987-E869-492C-966C-31328156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AFE9D-68F1-47AE-8CA1-8A16857C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4F5CA-1E2A-427B-B2F3-AB014128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41E91-7871-44EA-9ACB-037CC7D7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B5324-4336-4D4C-8C9C-659377D9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DC6EE-2D0F-4226-8283-BDF927C0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A6023-4534-442D-BABE-ABD0897E5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EE0DF-CE80-4F07-A6C7-F9DC08D4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93DD78-31D2-44E8-AB62-B4232E817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1999B-C4F7-4277-B498-C31A5729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B8106-1184-4C52-904F-884BD0D4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CF6B-4FD5-47C8-AE5A-DE625CC2AAE5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B95E-EE53-4261-9AAF-C363814DBF08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EBE9-D4CE-4410-8D67-EF06FDFE25FC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767A-A2D2-4F47-A8E5-C4C8DF106236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9D5F-F615-4F04-A38C-CD7E190715F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D453-5764-4F9F-A3AD-5DA60EBFBCB9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D459-66B8-4737-9F48-F7E6ABA52198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7631-16C9-4089-A0E6-1E5655AD4F95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0F48-A8A0-4D55-9736-0FC73CA4F90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9C41-87FA-42C4-91B3-FC26ED8A0CD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DA2D-C71A-4327-8DC2-815ACB8E07E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5885-C59F-40C0-97B4-31CC435E1543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FAB6-7140-4B13-8E34-466DAEAB6CF0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класс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: «Школа Ро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3058920" y="3885840"/>
            <a:ext cx="4392360" cy="2567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а: Золотухина О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ОУ «СОШ№71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Пер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Прямоугольник 3" descr=""/>
          <p:cNvPicPr/>
          <p:nvPr/>
        </p:nvPicPr>
        <p:blipFill>
          <a:blip r:embed="rId2"/>
          <a:stretch/>
        </p:blipFill>
        <p:spPr>
          <a:xfrm>
            <a:off x="244440" y="2023920"/>
            <a:ext cx="8655120" cy="7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называется это домашнее животн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459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ru-RU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3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7056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9944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гласных и согласных звуков в сло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6459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7200" spc="-1" strike="noStrike">
                <a:solidFill>
                  <a:srgbClr val="336600"/>
                </a:solidFill>
                <a:latin typeface="Arial"/>
              </a:rPr>
              <a:t>О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О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слогов в слов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ая соединительная линия 4"/>
          <p:cNvSpPr/>
          <p:nvPr/>
        </p:nvSpPr>
        <p:spPr>
          <a:xfrm flipH="1">
            <a:off x="5003280" y="1989000"/>
            <a:ext cx="36036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Арка 8"/>
          <p:cNvSpPr/>
          <p:nvPr/>
        </p:nvSpPr>
        <p:spPr>
          <a:xfrm flipV="1">
            <a:off x="2987640" y="3429000"/>
            <a:ext cx="914400" cy="216000"/>
          </a:xfrm>
          <a:custGeom>
            <a:avLst/>
            <a:gdLst>
              <a:gd name="textAreaLeft" fmla="*/ 0 w 914400"/>
              <a:gd name="textAreaRight" fmla="*/ 914760 w 914400"/>
              <a:gd name="textAreaTop" fmla="*/ 0 h 216000"/>
              <a:gd name="textAreaBottom" fmla="*/ 108000 h 216000"/>
            </a:gdLst>
            <a:ahLst/>
            <a:rect l="textAreaLeft" t="textAreaTop" r="textAreaRight" b="textAreaBottom"/>
            <a:pathLst>
              <a:path w="914400" h="215900">
                <a:moveTo>
                  <a:pt x="0" y="107949"/>
                </a:moveTo>
                <a:lnTo>
                  <a:pt x="0" y="107949"/>
                </a:lnTo>
                <a:arcTo wR="457200" hR="107950" stAng="-10799992" swAng="10800000"/>
                <a:lnTo>
                  <a:pt x="860425" y="107950"/>
                </a:lnTo>
                <a:lnTo>
                  <a:pt x="860425" y="107950"/>
                </a:lnTo>
                <a:arcTo wR="403225" hR="53975" stAng="0" swAng="-108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Арка 9"/>
          <p:cNvSpPr/>
          <p:nvPr/>
        </p:nvSpPr>
        <p:spPr>
          <a:xfrm flipV="1">
            <a:off x="4067280" y="3357720"/>
            <a:ext cx="914400" cy="358560"/>
          </a:xfrm>
          <a:custGeom>
            <a:avLst/>
            <a:gdLst>
              <a:gd name="textAreaLeft" fmla="*/ 0 w 914400"/>
              <a:gd name="textAreaRight" fmla="*/ 914760 w 914400"/>
              <a:gd name="textAreaTop" fmla="*/ 0 h 358560"/>
              <a:gd name="textAreaBottom" fmla="*/ 179280 h 358560"/>
            </a:gdLst>
            <a:ahLst/>
            <a:rect l="textAreaLeft" t="textAreaTop" r="textAreaRight" b="textAreaBottom"/>
            <a:pathLst>
              <a:path w="914400" h="358775">
                <a:moveTo>
                  <a:pt x="0" y="179387"/>
                </a:moveTo>
                <a:lnTo>
                  <a:pt x="0" y="179387"/>
                </a:lnTo>
                <a:arcTo wR="457200" hR="179388" stAng="-10799992" swAng="10800000"/>
                <a:lnTo>
                  <a:pt x="824706" y="179388"/>
                </a:lnTo>
                <a:lnTo>
                  <a:pt x="824706" y="179388"/>
                </a:lnTo>
                <a:arcTo wR="367506" hR="89694" stAng="0" swAng="-108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Арка 10"/>
          <p:cNvSpPr/>
          <p:nvPr/>
        </p:nvSpPr>
        <p:spPr>
          <a:xfrm flipV="1">
            <a:off x="5219640" y="3429000"/>
            <a:ext cx="914400" cy="287280"/>
          </a:xfrm>
          <a:custGeom>
            <a:avLst/>
            <a:gdLst>
              <a:gd name="textAreaLeft" fmla="*/ 0 w 914400"/>
              <a:gd name="textAreaRight" fmla="*/ 914760 w 914400"/>
              <a:gd name="textAreaTop" fmla="*/ 360 h 287280"/>
              <a:gd name="textAreaBottom" fmla="*/ 144000 h 287280"/>
            </a:gdLst>
            <a:ahLst/>
            <a:rect l="textAreaLeft" t="textAreaTop" r="textAreaRight" b="textAreaBottom"/>
            <a:pathLst>
              <a:path w="914400" h="287338">
                <a:moveTo>
                  <a:pt x="0" y="143668"/>
                </a:moveTo>
                <a:lnTo>
                  <a:pt x="0" y="143668"/>
                </a:lnTo>
                <a:arcTo wR="457200" hR="143669" stAng="-10799992" swAng="10800000"/>
                <a:lnTo>
                  <a:pt x="842566" y="143669"/>
                </a:lnTo>
                <a:lnTo>
                  <a:pt x="842566" y="143669"/>
                </a:lnTo>
                <a:arcTo wR="385366" hR="71835" stAng="0" swAng="-108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77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635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на изображении коровы можно найти букву «О»?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раз она вам встретила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459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ru-RU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2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7632720" cy="4319640"/>
          </a:xfrm>
          <a:prstGeom prst="rect">
            <a:avLst/>
          </a:prstGeom>
          <a:ln w="0">
            <a:noFill/>
          </a:ln>
        </p:spPr>
      </p:pic>
      <p:cxnSp>
        <p:nvCxnSpPr>
          <p:cNvPr id="555" name="Прямая со стрелкой 5"/>
          <p:cNvCxnSpPr/>
          <p:nvPr/>
        </p:nvCxnSpPr>
        <p:spPr>
          <a:xfrm>
            <a:off x="4716000" y="1844280"/>
            <a:ext cx="72360" cy="28090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556" name="Прямая со стрелкой 9"/>
          <p:cNvCxnSpPr/>
          <p:nvPr/>
        </p:nvCxnSpPr>
        <p:spPr>
          <a:xfrm>
            <a:off x="3203640" y="2060280"/>
            <a:ext cx="216720" cy="2664360"/>
          </a:xfrm>
          <a:prstGeom prst="straightConnector1">
            <a:avLst/>
          </a:prstGeom>
          <a:ln w="7632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557" name="Прямая со стрелкой 12"/>
          <p:cNvCxnSpPr/>
          <p:nvPr/>
        </p:nvCxnSpPr>
        <p:spPr>
          <a:xfrm>
            <a:off x="971640" y="2204640"/>
            <a:ext cx="2232720" cy="3312360"/>
          </a:xfrm>
          <a:prstGeom prst="straightConnector1">
            <a:avLst/>
          </a:prstGeom>
          <a:ln w="5724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558" name="Прямая со стрелкой 17"/>
          <p:cNvCxnSpPr/>
          <p:nvPr/>
        </p:nvCxnSpPr>
        <p:spPr>
          <a:xfrm flipH="1">
            <a:off x="5651280" y="2421000"/>
            <a:ext cx="1800720" cy="18007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5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816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Напишите слово в тетради для словарной работы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Разделите слово для переноса, поставьте ударени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826920" y="2133360"/>
            <a:ext cx="727416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ru-RU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1"/>
          <a:stretch/>
        </p:blipFill>
        <p:spPr>
          <a:xfrm>
            <a:off x="2195640" y="2133720"/>
            <a:ext cx="4968720" cy="35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иши грамот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Чтоб не обиделась корова,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 не прокисло молоко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Должны запомнить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Чт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Напишем только с буквой </a:t>
            </a:r>
            <a:r>
              <a:rPr b="1" lang="ru-RU" sz="29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ные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250560" y="1557000"/>
            <a:ext cx="8434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Шаблон презентации «Луг»// Федотова Виктория Александровна, учитель начальных классов МОУ СОШ с. Лохово Черемховского р-на Иркутской об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В.В. Волина.Учимся играя. – М.: Новая школа, 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Рисунок «Корова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ttp://selnov-grahovo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coollady.ru/puc/4/korova/6.j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Рисунок «Корова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ttp://raskraska.eu/zhivotnye/korova.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 Рисунок «Корова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ttp://raskraska.eu/risunok/zhivotnye/korova/raskraska/korova-37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3:22:31Z</dcterms:created>
  <dc:creator>Сергей</dc:creator>
  <dc:description/>
  <dc:language>en-US</dc:language>
  <cp:lastModifiedBy>Сергей</cp:lastModifiedBy>
  <dcterms:modified xsi:type="dcterms:W3CDTF">2013-06-10T15:49:12Z</dcterms:modified>
  <cp:revision>42</cp:revision>
  <dc:subject/>
  <dc:title>Слайд 1</dc:title>
</cp:coreProperties>
</file>